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2EB-A8B0-4ABA-AD7C-C1B9E2CA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CA8-62AD-4FAC-B09E-8D48BD2F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9DA-CCA8-4EE1-8D9F-C30386FB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EF2-706C-4D29-AA88-EB795E46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269-4E68-4C40-88EC-BC29C87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B93-4BFA-492C-A6E9-6657A590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3B1-EE68-458E-8D3E-0D3E2406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FE6-F328-4BE0-BB8A-C66104D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B59-7909-45A5-911C-92A31FD2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191-D363-4DAE-A0C1-CBA374B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DF1-499D-471D-AE13-39F729D7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46A-9A19-484E-A4D8-6A65BAA0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4F5A-E111-48E6-8EE6-F36F9BF623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  <a:ea typeface="Arial"/>
              </a:rPr>
              <a:t>Оборудование и аппаратура общего назнач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  <a:ea typeface="Arial"/>
              </a:rPr>
              <a:t>Аппаратура для нагревания, высушивания и термостатирова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П-1600ВЦБ ТИГЕЛЬНАЯ ПЕЧ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ТП-1600ВЦБ Тигельная печь"/>
          <p:cNvPicPr/>
          <p:nvPr/>
        </p:nvPicPr>
        <p:blipFill>
          <a:blip r:embed="rId1"/>
          <a:stretch/>
        </p:blipFill>
        <p:spPr>
          <a:xfrm>
            <a:off x="1752480" y="167652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ч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абораторна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СНОЛ 8,2/1100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http://torg.uz/image/offer/294683_b.jpg"/>
          <p:cNvPicPr/>
          <p:nvPr/>
        </p:nvPicPr>
        <p:blipFill>
          <a:blip r:embed="rId1"/>
          <a:stretch/>
        </p:blipFill>
        <p:spPr>
          <a:xfrm>
            <a:off x="1487520" y="2286000"/>
            <a:ext cx="5199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печь  —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одель EAF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http://www.anakon.ru/downloads/laborat-oborud/pechi-dlya-predvaitelnogo-nagreva/burneaf.gif"/>
          <p:cNvPicPr/>
          <p:nvPr/>
        </p:nvPicPr>
        <p:blipFill>
          <a:blip r:embed="rId1"/>
          <a:stretch/>
        </p:blipFill>
        <p:spPr>
          <a:xfrm>
            <a:off x="1905120" y="2819520"/>
            <a:ext cx="406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е муфельные печ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http://proheating.ru/uploads/posts/2013-01/1359447732_mufelnaya_pech2.jpg"/>
          <p:cNvPicPr/>
          <p:nvPr/>
        </p:nvPicPr>
        <p:blipFill>
          <a:blip r:embed="rId1"/>
          <a:stretch/>
        </p:blipFill>
        <p:spPr>
          <a:xfrm>
            <a:off x="685800" y="1600200"/>
            <a:ext cx="7780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нфракрасн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уши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http://www.allequipments.ru/pics/b_63.jpg"/>
          <p:cNvPicPr/>
          <p:nvPr/>
        </p:nvPicPr>
        <p:blipFill>
          <a:blip r:embed="rId1"/>
          <a:stretch/>
        </p:blipFill>
        <p:spPr>
          <a:xfrm>
            <a:off x="2324160" y="18288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нфракрасная сушильная установ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http://www.ulabrus.ru/upload/iblock/018/big.jpg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лбонагреватель LOIP LH-125: одноместный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 до + 400 °С, объем колбы 250 м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http://www.kipia-lab.ru/published/publicdata/WWWKIPIALABRUKIPS/attachments/SC/products_pictures/LOIP_LH_125.jpg"/>
          <p:cNvPicPr/>
          <p:nvPr/>
        </p:nvPicPr>
        <p:blipFill>
          <a:blip r:embed="rId1"/>
          <a:stretch/>
        </p:blipFill>
        <p:spPr>
          <a:xfrm>
            <a:off x="3013200" y="3124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лбонагреватель многоместны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http://www.lks.ru/catalog/vspomog/kolbonagrev/images/lab-fn-500-3-euro_big.jpg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олбонагреватели KI 16 и KI 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http://www.proflabspb.ru/upload/image/fullsize/217.jpg"/>
          <p:cNvPicPr/>
          <p:nvPr/>
        </p:nvPicPr>
        <p:blipFill>
          <a:blip r:embed="rId1"/>
          <a:stretch/>
        </p:blipFill>
        <p:spPr>
          <a:xfrm>
            <a:off x="1371600" y="3124080"/>
            <a:ext cx="58672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Arial"/>
              </a:rPr>
              <a:t>Вопросы: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 Общая характеристика лабораторной тех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 Аппаратура общего назна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кономичные термостат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-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http://www.jeiotech.com/eng/uploads/1297152545/1297152545_7.jpg"/>
          <p:cNvPicPr/>
          <p:nvPr/>
        </p:nvPicPr>
        <p:blipFill>
          <a:blip r:embed="rId1"/>
          <a:stretch/>
        </p:blipFill>
        <p:spPr>
          <a:xfrm>
            <a:off x="2590920" y="198108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ермостаты лабораторные суховоздушные серии ТС-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http://medpromtech.at.ua/Termostat/TS-1.jpg"/>
          <p:cNvPicPr/>
          <p:nvPr/>
        </p:nvPicPr>
        <p:blipFill>
          <a:blip r:embed="rId1"/>
          <a:stretch/>
        </p:blipFill>
        <p:spPr>
          <a:xfrm>
            <a:off x="2057400" y="2209680"/>
            <a:ext cx="5172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льтратермоста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АБ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ТЖ-ТС-01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http://neftegaz.ru/pictures/04358786ccaec9.jpg"/>
          <p:cNvPicPr/>
          <p:nvPr/>
        </p:nvPicPr>
        <p:blipFill>
          <a:blip r:embed="rId1"/>
          <a:stretch/>
        </p:blipFill>
        <p:spPr>
          <a:xfrm>
            <a:off x="2666880" y="1500120"/>
            <a:ext cx="34290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аня лабораторная водя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http://www.leantlab.ru/application/upload/fm/Oborudovanie/Bani_laboratornye/termiya.jpg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аня водяная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://f1.ds-russia.ru/u_dirs/071/71743/c2852000fbf1a3132a37230bc330c566.jpg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ая водяная ба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http://www.bioscorp.ru/UserFiles/Image/Vodyanaya_banya_lb/8714_1.jpg"/>
          <p:cNvPicPr/>
          <p:nvPr/>
        </p:nvPicPr>
        <p:blipFill>
          <a:blip r:embed="rId1"/>
          <a:stretch/>
        </p:blipFill>
        <p:spPr>
          <a:xfrm>
            <a:off x="826920" y="2133720"/>
            <a:ext cx="7490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ппаратура для взвешива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сы лабораторные прецизионные ВЛТ-6100П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" descr="http://tochpribor.org/assets/images/katalog/weighing_technology/vesi_laborat/vlt.jpeg"/>
          <p:cNvPicPr/>
          <p:nvPr/>
        </p:nvPicPr>
        <p:blipFill>
          <a:blip r:embed="rId1"/>
          <a:stretch/>
        </p:blipFill>
        <p:spPr>
          <a:xfrm>
            <a:off x="1905120" y="2209680"/>
            <a:ext cx="5067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с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ыеаналитическ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ВСЛ-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http://www.vesov.net/files/images/products/Vsl_analit1_1286273355.jpg"/>
          <p:cNvPicPr/>
          <p:nvPr/>
        </p:nvPicPr>
        <p:blipFill>
          <a:blip r:embed="rId1"/>
          <a:stretch/>
        </p:blipFill>
        <p:spPr>
          <a:xfrm>
            <a:off x="2257560" y="1752480"/>
            <a:ext cx="46288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сы равноплечн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http://school.xvatit.com/images/f/f9/DenF_7_10_4.jpg"/>
          <p:cNvPicPr/>
          <p:nvPr/>
        </p:nvPicPr>
        <p:blipFill>
          <a:blip r:embed="rId1"/>
          <a:stretch/>
        </p:blipFill>
        <p:spPr>
          <a:xfrm>
            <a:off x="2552760" y="1230480"/>
            <a:ext cx="40384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ппаратура для дистилляции и деминерализации вод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е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ВА-4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http://k-tasymal.kz/d/127601/d/39044001_6.jpg"/>
          <p:cNvPicPr/>
          <p:nvPr/>
        </p:nvPicPr>
        <p:blipFill>
          <a:blip r:embed="rId1"/>
          <a:stretch/>
        </p:blipFill>
        <p:spPr>
          <a:xfrm>
            <a:off x="1892160" y="1752480"/>
            <a:ext cx="535968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с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еравноплеч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 класса модели ВЛР-20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http://www.splyse.ru/netcat_files/11/3/rapar_112.jpeg"/>
          <p:cNvPicPr/>
          <p:nvPr/>
        </p:nvPicPr>
        <p:blipFill>
          <a:blip r:embed="rId1"/>
          <a:stretch/>
        </p:blipFill>
        <p:spPr>
          <a:xfrm>
            <a:off x="2130480" y="1676520"/>
            <a:ext cx="4883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2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сы лабораторные торсионные В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http://img08.slando.ua/images_slandocomua/95916543_1_644x461_vesy-laboratornye-torsionnye-vt-500-herson.jpg"/>
          <p:cNvPicPr/>
          <p:nvPr/>
        </p:nvPicPr>
        <p:blipFill>
          <a:blip r:embed="rId1"/>
          <a:stretch/>
        </p:blipFill>
        <p:spPr>
          <a:xfrm>
            <a:off x="2666880" y="1828800"/>
            <a:ext cx="29242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ппаратура для центрифугирова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ентрифуг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ЦЛ 1/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http://www.nextonmarket.com/u/6433/p/640x480/eb699f2aa2ccd918ce159ace523cdf2e.jpg"/>
          <p:cNvPicPr/>
          <p:nvPr/>
        </p:nvPicPr>
        <p:blipFill>
          <a:blip r:embed="rId1"/>
          <a:stretch/>
        </p:blipFill>
        <p:spPr>
          <a:xfrm>
            <a:off x="1371600" y="1828800"/>
            <a:ext cx="598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ентрифуга предназначена для использования в практике клинической лабораторной диагности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2" descr="http://mknadezhda.ru/wp-content/uploads/wpsc/product_images/live-7.jpg"/>
          <p:cNvPicPr/>
          <p:nvPr/>
        </p:nvPicPr>
        <p:blipFill>
          <a:blip r:embed="rId1"/>
          <a:srcRect l="0" t="16518" r="0" b="7152"/>
          <a:stretch/>
        </p:blipFill>
        <p:spPr>
          <a:xfrm>
            <a:off x="2514600" y="1676520"/>
            <a:ext cx="43815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Supra 30K Высокоскоростная вакуумная центрифуг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http://www.gobizkorea.com/att/cat/ihanil/tp_html/img/ihanil_cat_12_small_img_2.jpg"/>
          <p:cNvPicPr/>
          <p:nvPr/>
        </p:nvPicPr>
        <p:blipFill>
          <a:blip r:embed="rId1"/>
          <a:stretch/>
        </p:blipFill>
        <p:spPr>
          <a:xfrm>
            <a:off x="2209680" y="1589040"/>
            <a:ext cx="40388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льтрацентрифуг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сери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rvall WX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http://xn----7sbaabc5aysczdhb2ac6af2d5l.xn--p1ai/i/p/SOR_WX.jpg"/>
          <p:cNvPicPr/>
          <p:nvPr/>
        </p:nvPicPr>
        <p:blipFill>
          <a:blip r:embed="rId1"/>
          <a:stretch/>
        </p:blipFill>
        <p:spPr>
          <a:xfrm>
            <a:off x="2400480" y="1792440"/>
            <a:ext cx="4343400" cy="52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ппаратура для обнаружения, идентификации и  измер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икроскоп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http://www.mikro-news.de/images/0cb336121e.jpg"/>
          <p:cNvPicPr/>
          <p:nvPr/>
        </p:nvPicPr>
        <p:blipFill>
          <a:blip r:embed="rId1"/>
          <a:stretch/>
        </p:blipFill>
        <p:spPr>
          <a:xfrm>
            <a:off x="2286000" y="1523880"/>
            <a:ext cx="3838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457200" y="1143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тил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лат. distillatio - стекание каплями) - перегонка, испарение жидкости с последующим охлаждением и конденсацией п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33520" y="251460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ая дистил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частичное испарение кипящей жидкой смеси путём непрерывного отвода и конденсации образовавшихся паров в холодильнике. Полученный конденсат называется дистилля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09480" y="4572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кционная дистил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ли дробная перегонка) - разделение многокомпонентных жидких смесей на отличающиеся по составу части - фрак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ветитель кольцевой с регулировкой яркости (для микроскопов серии МС, МБС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2" descr="Осветитель кольцевой с регулировкой яркости (для микроскопов серии МС, МБС) "/>
          <p:cNvPicPr/>
          <p:nvPr/>
        </p:nvPicPr>
        <p:blipFill>
          <a:blip r:embed="rId1"/>
          <a:stretch/>
        </p:blipFill>
        <p:spPr>
          <a:xfrm>
            <a:off x="1371600" y="1828800"/>
            <a:ext cx="6095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Фотоэлектрический колоримет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PEL AP-10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Фотоэлектрический колориметр APEL AP-101"/>
          <p:cNvPicPr/>
          <p:nvPr/>
        </p:nvPicPr>
        <p:blipFill>
          <a:blip r:embed="rId1"/>
          <a:stretch/>
        </p:blipFill>
        <p:spPr>
          <a:xfrm rot="237600">
            <a:off x="1142640" y="1835280"/>
            <a:ext cx="64771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тационарный мутномер 21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, 2100A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Picture 2" descr="Мутномер-HL-2100N-IS"/>
          <p:cNvPicPr/>
          <p:nvPr/>
        </p:nvPicPr>
        <p:blipFill>
          <a:blip r:embed="rId1"/>
          <a:srcRect l="0" t="0" r="0" b="22711"/>
          <a:stretch/>
        </p:blipFill>
        <p:spPr>
          <a:xfrm>
            <a:off x="1143000" y="1968480"/>
            <a:ext cx="674532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пектрофотометр СФ-10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http://www.akvilon.su/Products/sf103.jpg"/>
          <p:cNvPicPr/>
          <p:nvPr/>
        </p:nvPicPr>
        <p:blipFill>
          <a:blip r:embed="rId1"/>
          <a:stretch/>
        </p:blipFill>
        <p:spPr>
          <a:xfrm>
            <a:off x="1012680" y="1981080"/>
            <a:ext cx="7118640" cy="4457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ефрактометр лаборатор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ИРФ-454Б2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http://e-catalog.rusbiz.ru/user_images/ru/prod_picture/157204800548565f14c74da.jpg"/>
          <p:cNvPicPr/>
          <p:nvPr/>
        </p:nvPicPr>
        <p:blipFill>
          <a:blip r:embed="rId1"/>
          <a:stretch/>
        </p:blipFill>
        <p:spPr>
          <a:xfrm>
            <a:off x="3166920" y="1906560"/>
            <a:ext cx="31244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ермометры лабораторны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Термометр лабораторный от компании Техносинтез в Ростове-на-Дону"/>
          <p:cNvPicPr/>
          <p:nvPr/>
        </p:nvPicPr>
        <p:blipFill>
          <a:blip r:embed="rId1"/>
          <a:stretch/>
        </p:blipFill>
        <p:spPr>
          <a:xfrm>
            <a:off x="307800" y="1857240"/>
            <a:ext cx="4864320" cy="364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teplo62.ru/d/122382/d/tl.jpg"/>
          <p:cNvPicPr/>
          <p:nvPr/>
        </p:nvPicPr>
        <p:blipFill>
          <a:blip r:embed="rId2"/>
          <a:stretch/>
        </p:blipFill>
        <p:spPr>
          <a:xfrm>
            <a:off x="5257800" y="1206360"/>
            <a:ext cx="35812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Аппаратура для встряхивания и помешива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шейке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ери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http://www.baacklab.de/shop/images/artikel_gross/baa25506022.jpg"/>
          <p:cNvPicPr/>
          <p:nvPr/>
        </p:nvPicPr>
        <p:blipFill>
          <a:blip r:embed="rId1"/>
          <a:stretch/>
        </p:blipFill>
        <p:spPr>
          <a:xfrm>
            <a:off x="1905120" y="2103480"/>
            <a:ext cx="5715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стряхивател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erhardt RO-50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2" descr="http://www.argentum107.ru/content/prosp/AZVA6.jpg"/>
          <p:cNvPicPr/>
          <p:nvPr/>
        </p:nvPicPr>
        <p:blipFill>
          <a:blip r:embed="rId1"/>
          <a:stretch/>
        </p:blipFill>
        <p:spPr>
          <a:xfrm>
            <a:off x="1577880" y="1600200"/>
            <a:ext cx="60451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агнитная мешалка ММ-0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4" descr="http://www.minprom.gov.by/images/products/78502.jpg"/>
          <p:cNvPicPr/>
          <p:nvPr/>
        </p:nvPicPr>
        <p:blipFill>
          <a:blip r:embed="rId1"/>
          <a:stretch/>
        </p:blipFill>
        <p:spPr>
          <a:xfrm>
            <a:off x="2743200" y="2133720"/>
            <a:ext cx="333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квадистиллятор ДЭ-25-СПБ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http://www.bioprotect.ru/images/Lab_oborudovanie/Aquadestill_ZAO_EMO/3.JPG"/>
          <p:cNvPicPr/>
          <p:nvPr/>
        </p:nvPicPr>
        <p:blipFill>
          <a:blip r:embed="rId1"/>
          <a:stretch/>
        </p:blipFill>
        <p:spPr>
          <a:xfrm>
            <a:off x="2070000" y="1447920"/>
            <a:ext cx="3483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агнитная меша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http://rosmosmed.ru/assets/images/items/meshalka-magnitnaya-ms-01--800--sz.jpg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рхнеприводная мешалк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http://www.kipia-lab.ru/published/publicdata/WWWKIPIALABRUKIPS/attachments/SC/products_pictures/HS_100D_enl.jpg"/>
          <p:cNvPicPr/>
          <p:nvPr/>
        </p:nvPicPr>
        <p:blipFill>
          <a:blip r:embed="rId1"/>
          <a:stretch/>
        </p:blipFill>
        <p:spPr>
          <a:xfrm>
            <a:off x="5486400" y="457200"/>
            <a:ext cx="3571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спомогательное оборудов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шина для мойки и дезинфекции лабораторной посуды и инструментов (G 7883 CD с тепловой сушкой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http://www.rosanalitika.ru/content/uploads/images/g7883cd-600x600.jpg"/>
          <p:cNvPicPr/>
          <p:nvPr/>
        </p:nvPicPr>
        <p:blipFill>
          <a:blip r:embed="rId1"/>
          <a:stretch/>
        </p:blipFill>
        <p:spPr>
          <a:xfrm>
            <a:off x="1600200" y="20574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оюще-дезинфицирующая машина марк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ANCER-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8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P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http://www.laborant.net/getpicture.aspx/1bdc8721d73f493fb54f3f1d889bc352.jpg"/>
          <p:cNvPicPr/>
          <p:nvPr/>
        </p:nvPicPr>
        <p:blipFill>
          <a:blip r:embed="rId1"/>
          <a:stretch/>
        </p:blipFill>
        <p:spPr>
          <a:xfrm>
            <a:off x="2057400" y="1735200"/>
            <a:ext cx="51325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ушилка для лабораторной посуд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http://www.ilpen.co.il/borrowed_graphics/gerhardt/stl_glass_dryer.jpg"/>
          <p:cNvPicPr/>
          <p:nvPr/>
        </p:nvPicPr>
        <p:blipFill>
          <a:blip r:embed="rId1"/>
          <a:stretch/>
        </p:blipFill>
        <p:spPr>
          <a:xfrm>
            <a:off x="2209680" y="1752480"/>
            <a:ext cx="328608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тол - мойка лаборатор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2" descr="http://www.agromed.ua32.com/a/a/am/img/table_moika.jpg"/>
          <p:cNvPicPr/>
          <p:nvPr/>
        </p:nvPicPr>
        <p:blipFill>
          <a:blip r:embed="rId1"/>
          <a:stretch/>
        </p:blipFill>
        <p:spPr>
          <a:xfrm>
            <a:off x="1355760" y="1569960"/>
            <a:ext cx="55785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Шкаф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ытяж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R-LV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" name="Picture 2" descr="http://www.mkor.ru/netcat_files/153_622.jpg"/>
          <p:cNvPicPr/>
          <p:nvPr/>
        </p:nvPicPr>
        <p:blipFill>
          <a:blip r:embed="rId1"/>
          <a:stretch/>
        </p:blipFill>
        <p:spPr>
          <a:xfrm>
            <a:off x="10666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каф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ытяжно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ВК-Л-07 "ЛАВКОР"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http://www.medcomp.ru/upload/iblock/c66/c66231f86ff99f44e639fb747eeac8f3.jpg"/>
          <p:cNvPicPr/>
          <p:nvPr/>
        </p:nvPicPr>
        <p:blipFill>
          <a:blip r:embed="rId1"/>
          <a:stretch/>
        </p:blipFill>
        <p:spPr>
          <a:xfrm>
            <a:off x="1295280" y="1600200"/>
            <a:ext cx="4724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мпрессор лабораторны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2" descr="http://www.topguns.ru/art/v/vozmozhno-li-sdelat-malogabaritny-nasos-vd/index_files/1.jpg"/>
          <p:cNvPicPr/>
          <p:nvPr/>
        </p:nvPicPr>
        <p:blipFill>
          <a:blip r:embed="rId1"/>
          <a:stretch/>
        </p:blipFill>
        <p:spPr>
          <a:xfrm>
            <a:off x="2209680" y="2651040"/>
            <a:ext cx="426744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истилляторы ДЭ-5, ДЭ-1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standart-m.com.ua/userfiles/image/%D0%94%D0%B8%D1%81%D1%82%D0%B8%D0%BB%D0%BB%D1%8F%D1%82%D0%BE%D1%80%20AD-5%20.jpg"/>
          <p:cNvPicPr/>
          <p:nvPr/>
        </p:nvPicPr>
        <p:blipFill>
          <a:blip r:embed="rId1"/>
          <a:stretch/>
        </p:blipFill>
        <p:spPr>
          <a:xfrm>
            <a:off x="1066680" y="157464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standart-m.com.ua/userfiles/image/distilljator-elektricheskyj-de-15.jpg"/>
          <p:cNvPicPr/>
          <p:nvPr/>
        </p:nvPicPr>
        <p:blipFill>
          <a:blip r:embed="rId2"/>
          <a:stretch/>
        </p:blipFill>
        <p:spPr>
          <a:xfrm>
            <a:off x="4648320" y="15876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ный вакуумный насос 16694-2-50-2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http://eslab-spb.ru/d/64856/d/1669425006.jpg"/>
          <p:cNvPicPr/>
          <p:nvPr/>
        </p:nvPicPr>
        <p:blipFill>
          <a:blip r:embed="rId1"/>
          <a:stretch/>
        </p:blipFill>
        <p:spPr>
          <a:xfrm>
            <a:off x="1974960" y="2209680"/>
            <a:ext cx="49593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истиллятор лабораторный ДЛ-4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4л мед., бытового назначен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http://vikon-spb.ru/images/6622009-09-0288164368.jpg"/>
          <p:cNvPicPr/>
          <p:nvPr/>
        </p:nvPicPr>
        <p:blipFill>
          <a:blip r:embed="rId1"/>
          <a:stretch/>
        </p:blipFill>
        <p:spPr>
          <a:xfrm>
            <a:off x="2405160" y="1828800"/>
            <a:ext cx="4572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Бидистиллято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ий ДЭ-5С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http://mitomed.com.ua/published/publicdata/MITOMEDMIT/attachments/SC/products_pictures/bidistillyator_mikromed_b5_enl.jpg"/>
          <p:cNvPicPr/>
          <p:nvPr/>
        </p:nvPicPr>
        <p:blipFill>
          <a:blip r:embed="rId1"/>
          <a:stretch/>
        </p:blipFill>
        <p:spPr>
          <a:xfrm>
            <a:off x="1219320" y="1981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дистиллятор - ФЛП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http://board.od.ua/uploads/aimages/large/357/356173-367992.jpg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51:58Z</dcterms:created>
  <dc:creator>r.eash</dc:creator>
  <dc:description/>
  <dc:language>en-US</dc:language>
  <cp:lastModifiedBy>Пользователь</cp:lastModifiedBy>
  <dcterms:modified xsi:type="dcterms:W3CDTF">2013-09-23T04:22:57Z</dcterms:modified>
  <cp:revision>30</cp:revision>
  <dc:subject/>
  <dc:title>Slide 1</dc:title>
</cp:coreProperties>
</file>